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52414-2FA0-410D-AA52-F318368EC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3980-C543-4141-8B0B-E9BFEBA6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BB357-D8AF-4BFF-840D-0108D15A9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83545-D4AF-4724-83D3-3405B3030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D089-4E12-4FD6-AE29-AFF19720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B58E-BD6D-4674-9EA9-01D76EA6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DD4A-81B4-41AF-8250-10A811C3E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8BA2-2A8C-4BA8-A5BA-E258CF9F8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E71A-911C-4C44-9DFB-00C319484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BB2A-A824-4DFA-A26B-285027C3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9E57-8062-47A5-9692-EF10FFDB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6D01-4F01-4C55-9D71-38B5D8E7D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2DA3-D535-40EC-AF49-6914934146E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8813-DDA0-49CB-89F2-6D407E32E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u="sng">
                <a:solidFill>
                  <a:srgbClr val="0033cc"/>
                </a:solidFill>
                <a:uFillTx/>
                <a:latin typeface="Garamond"/>
                <a:hlinkClick r:id="rId2" action="ppaction://hlinksldjump"/>
              </a:rPr>
              <a:t>20</a:t>
            </a:r>
            <a:endParaRPr b="0" lang="en-US" sz="2400" spc="-1" strike="noStrike">
              <a:solidFill>
                <a:srgbClr val="000000"/>
              </a:solidFill>
              <a:latin typeface="Times New Roman"/>
            </a:endParaRPr>
          </a:p>
        </p:txBody>
      </p:sp>
      <p:sp>
        <p:nvSpPr>
          <p:cNvPr id="42"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4" action="ppaction://hlinksldjump"/>
              </a:rPr>
              <a:t>30</a:t>
            </a:r>
            <a:endParaRPr b="0" lang="en-US" sz="2400" spc="-1" strike="noStrike">
              <a:solidFill>
                <a:srgbClr val="000000"/>
              </a:solidFill>
              <a:latin typeface="Times New Roman"/>
            </a:endParaRPr>
          </a:p>
        </p:txBody>
      </p:sp>
      <p:sp>
        <p:nvSpPr>
          <p:cNvPr id="43"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6" action="ppaction://hlinksldjump"/>
              </a:rPr>
              <a:t>40 </a:t>
            </a:r>
            <a:endParaRPr b="0" lang="en-US" sz="2400" spc="-1" strike="noStrike">
              <a:solidFill>
                <a:srgbClr val="000000"/>
              </a:solidFill>
              <a:latin typeface="Times New Roman"/>
            </a:endParaRPr>
          </a:p>
        </p:txBody>
      </p:sp>
      <p:sp>
        <p:nvSpPr>
          <p:cNvPr id="44"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8" action="ppaction://hlinksldjump"/>
              </a:rPr>
              <a:t>50</a:t>
            </a:r>
            <a:endParaRPr b="0" lang="en-US" sz="2400" spc="-1" strike="noStrike">
              <a:solidFill>
                <a:srgbClr val="000000"/>
              </a:solidFill>
              <a:latin typeface="Times New Roman"/>
            </a:endParaRPr>
          </a:p>
        </p:txBody>
      </p:sp>
      <p:sp>
        <p:nvSpPr>
          <p:cNvPr id="45" name="">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0" action="ppaction://hlinksldjump"/>
              </a:rPr>
              <a:t>10</a:t>
            </a:r>
            <a:endParaRPr b="0" lang="en-US" sz="2400" spc="-1" strike="noStrike">
              <a:solidFill>
                <a:srgbClr val="000000"/>
              </a:solidFill>
              <a:latin typeface="Times New Roman"/>
            </a:endParaRPr>
          </a:p>
        </p:txBody>
      </p:sp>
      <p:sp>
        <p:nvSpPr>
          <p:cNvPr id="46" name="">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2" action="ppaction://hlinksldjump"/>
              </a:rPr>
              <a:t>20</a:t>
            </a:r>
            <a:endParaRPr b="0" lang="en-US" sz="2400" spc="-1" strike="noStrike">
              <a:solidFill>
                <a:srgbClr val="000000"/>
              </a:solidFill>
              <a:latin typeface="Times New Roman"/>
            </a:endParaRPr>
          </a:p>
        </p:txBody>
      </p:sp>
      <p:sp>
        <p:nvSpPr>
          <p:cNvPr id="47" name="">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4" action="ppaction://hlinksldjump"/>
              </a:rPr>
              <a:t>30</a:t>
            </a:r>
            <a:endParaRPr b="0" lang="en-US" sz="2400" spc="-1" strike="noStrike">
              <a:solidFill>
                <a:srgbClr val="000000"/>
              </a:solidFill>
              <a:latin typeface="Times New Roman"/>
            </a:endParaRPr>
          </a:p>
        </p:txBody>
      </p:sp>
      <p:sp>
        <p:nvSpPr>
          <p:cNvPr id="48" name="">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6" action="ppaction://hlinksldjump"/>
              </a:rPr>
              <a:t>40 </a:t>
            </a:r>
            <a:endParaRPr b="0" lang="en-US" sz="2400" spc="-1" strike="noStrike">
              <a:solidFill>
                <a:srgbClr val="000000"/>
              </a:solidFill>
              <a:latin typeface="Times New Roman"/>
            </a:endParaRPr>
          </a:p>
        </p:txBody>
      </p:sp>
      <p:sp>
        <p:nvSpPr>
          <p:cNvPr id="49" name="">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18" action="ppaction://hlinksldjump"/>
              </a:rPr>
              <a:t>50 </a:t>
            </a:r>
            <a:endParaRPr b="0" lang="en-US" sz="2400" spc="-1" strike="noStrike">
              <a:solidFill>
                <a:srgbClr val="000000"/>
              </a:solidFill>
              <a:latin typeface="Times New Roman"/>
            </a:endParaRPr>
          </a:p>
        </p:txBody>
      </p:sp>
      <p:sp>
        <p:nvSpPr>
          <p:cNvPr id="50" name="">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u="sng">
                <a:solidFill>
                  <a:srgbClr val="0033cc"/>
                </a:solidFill>
                <a:uFillTx/>
                <a:latin typeface="Garamond"/>
                <a:hlinkClick r:id="rId20" action="ppaction://hlinksldjump"/>
              </a:rPr>
              <a:t>10 </a:t>
            </a:r>
            <a:endParaRPr b="0" lang="en-US" sz="2400" spc="-1" strike="noStrike">
              <a:solidFill>
                <a:srgbClr val="000000"/>
              </a:solidFill>
              <a:latin typeface="Times New Roman"/>
            </a:endParaRPr>
          </a:p>
        </p:txBody>
      </p:sp>
      <p:sp>
        <p:nvSpPr>
          <p:cNvPr id="51" name="">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a:t>
            </a:r>
            <a:endParaRPr b="0" lang="en-US" sz="2400" spc="-1" strike="noStrike">
              <a:solidFill>
                <a:srgbClr val="000000"/>
              </a:solidFill>
              <a:latin typeface="Times New Roman"/>
            </a:endParaRPr>
          </a:p>
        </p:txBody>
      </p:sp>
      <p:sp>
        <p:nvSpPr>
          <p:cNvPr id="52"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a:t>
            </a:r>
            <a:endParaRPr b="0" lang="en-US" sz="2400" spc="-1" strike="noStrike">
              <a:solidFill>
                <a:srgbClr val="000000"/>
              </a:solidFill>
              <a:latin typeface="Times New Roman"/>
            </a:endParaRPr>
          </a:p>
        </p:txBody>
      </p:sp>
      <p:sp>
        <p:nvSpPr>
          <p:cNvPr id="53" name="">
            <a:hlinkClick r:id="rId23"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a:t>
            </a:r>
            <a:endParaRPr b="0" lang="en-US" sz="2400" spc="-1" strike="noStrike">
              <a:solidFill>
                <a:srgbClr val="000000"/>
              </a:solidFill>
              <a:latin typeface="Times New Roman"/>
            </a:endParaRPr>
          </a:p>
        </p:txBody>
      </p:sp>
      <p:sp>
        <p:nvSpPr>
          <p:cNvPr id="54" name="">
            <a:hlinkClick r:id="rId24"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55"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10</a:t>
            </a:r>
            <a:endParaRPr b="0" lang="en-US" sz="2400" spc="-1" strike="noStrike">
              <a:solidFill>
                <a:srgbClr val="000000"/>
              </a:solidFill>
              <a:latin typeface="Times New Roman"/>
            </a:endParaRPr>
          </a:p>
        </p:txBody>
      </p:sp>
      <p:sp>
        <p:nvSpPr>
          <p:cNvPr id="56"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a:t>
            </a:r>
            <a:endParaRPr b="0" lang="en-US" sz="2400" spc="-1" strike="noStrike">
              <a:solidFill>
                <a:srgbClr val="000000"/>
              </a:solidFill>
              <a:latin typeface="Times New Roman"/>
            </a:endParaRPr>
          </a:p>
        </p:txBody>
      </p:sp>
      <p:sp>
        <p:nvSpPr>
          <p:cNvPr id="57"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a:t>
            </a:r>
            <a:endParaRPr b="0" lang="en-US" sz="2400" spc="-1" strike="noStrike">
              <a:solidFill>
                <a:srgbClr val="000000"/>
              </a:solidFill>
              <a:latin typeface="Times New Roman"/>
            </a:endParaRPr>
          </a:p>
        </p:txBody>
      </p:sp>
      <p:sp>
        <p:nvSpPr>
          <p:cNvPr id="58"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 </a:t>
            </a:r>
            <a:endParaRPr b="0" lang="en-US" sz="2400" spc="-1" strike="noStrike">
              <a:solidFill>
                <a:srgbClr val="000000"/>
              </a:solidFill>
              <a:latin typeface="Times New Roman"/>
            </a:endParaRPr>
          </a:p>
        </p:txBody>
      </p:sp>
      <p:sp>
        <p:nvSpPr>
          <p:cNvPr id="59"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60"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10</a:t>
            </a:r>
            <a:endParaRPr b="0" lang="en-US" sz="2400" spc="-1" strike="noStrike">
              <a:solidFill>
                <a:srgbClr val="000000"/>
              </a:solidFill>
              <a:latin typeface="Times New Roman"/>
            </a:endParaRPr>
          </a:p>
        </p:txBody>
      </p:sp>
      <p:sp>
        <p:nvSpPr>
          <p:cNvPr id="61"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20 </a:t>
            </a:r>
            <a:endParaRPr b="0" lang="en-US" sz="2400" spc="-1" strike="noStrike">
              <a:solidFill>
                <a:srgbClr val="000000"/>
              </a:solidFill>
              <a:latin typeface="Times New Roman"/>
            </a:endParaRPr>
          </a:p>
        </p:txBody>
      </p:sp>
      <p:sp>
        <p:nvSpPr>
          <p:cNvPr id="62"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30 </a:t>
            </a:r>
            <a:endParaRPr b="0" lang="en-US" sz="2400" spc="-1" strike="noStrike">
              <a:solidFill>
                <a:srgbClr val="000000"/>
              </a:solidFill>
              <a:latin typeface="Times New Roman"/>
            </a:endParaRPr>
          </a:p>
        </p:txBody>
      </p:sp>
      <p:sp>
        <p:nvSpPr>
          <p:cNvPr id="63"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40</a:t>
            </a:r>
            <a:endParaRPr b="0" lang="en-US" sz="2400" spc="-1" strike="noStrike">
              <a:solidFill>
                <a:srgbClr val="000000"/>
              </a:solidFill>
              <a:latin typeface="Times New Roman"/>
            </a:endParaRPr>
          </a:p>
        </p:txBody>
      </p:sp>
      <p:sp>
        <p:nvSpPr>
          <p:cNvPr id="64"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000000"/>
                </a:solidFill>
                <a:latin typeface="Times New Roman"/>
              </a:rPr>
              <a:t> </a:t>
            </a:r>
            <a:r>
              <a:rPr b="0" lang="en-US" sz="2400" spc="-1" strike="noStrike">
                <a:solidFill>
                  <a:srgbClr val="ffffcc"/>
                </a:solidFill>
                <a:latin typeface="Garamond"/>
              </a:rPr>
              <a:t>50 </a:t>
            </a:r>
            <a:endParaRPr b="0" lang="en-US" sz="2400" spc="-1" strike="noStrike">
              <a:solidFill>
                <a:srgbClr val="000000"/>
              </a:solidFill>
              <a:latin typeface="Times New Roman"/>
            </a:endParaRPr>
          </a:p>
        </p:txBody>
      </p:sp>
      <p:sp>
        <p:nvSpPr>
          <p:cNvPr id="65"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 10</a:t>
            </a:r>
            <a:endParaRPr b="0" lang="en-US" sz="24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Figura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Spee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name them)</a:t>
            </a:r>
            <a:endParaRPr b="0" lang="en-US" sz="24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ot Words</a:t>
            </a:r>
            <a:endParaRPr b="0" lang="en-US" sz="24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3366ff"/>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res</a:t>
            </a:r>
            <a:endParaRPr b="0" lang="en-US" sz="24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3366ff"/>
          </a:solid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er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ices I</a:t>
            </a:r>
            <a:endParaRPr b="0" lang="en-US" sz="24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3366ff"/>
          </a:solid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er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ices II</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57200" y="6858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y do authors’ use figurative speech in their writing.</a:t>
            </a:r>
            <a:endParaRPr b="0" lang="en-US" sz="7200" spc="-1" strike="noStrike">
              <a:solidFill>
                <a:srgbClr val="000000"/>
              </a:solidFill>
              <a:latin typeface="Times New Roman"/>
            </a:endParaRPr>
          </a:p>
        </p:txBody>
      </p:sp>
      <p:sp>
        <p:nvSpPr>
          <p:cNvPr id="109" name=""/>
          <p:cNvSpPr/>
          <p:nvPr/>
        </p:nvSpPr>
        <p:spPr>
          <a:xfrm>
            <a:off x="1219320" y="1676520"/>
            <a:ext cx="6629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3880" y="2133720"/>
            <a:ext cx="63248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y use figurative speech to create a picture in the reader’s mind.</a:t>
            </a:r>
            <a:endParaRPr b="0" lang="en-US" sz="5400" spc="-1" strike="noStrike">
              <a:solidFill>
                <a:srgbClr val="000000"/>
              </a:solidFill>
              <a:latin typeface="Times New Roman"/>
            </a:endParaRPr>
          </a:p>
        </p:txBody>
      </p:sp>
      <p:sp>
        <p:nvSpPr>
          <p:cNvPr id="114" name=""/>
          <p:cNvSpPr/>
          <p:nvPr/>
        </p:nvSpPr>
        <p:spPr>
          <a:xfrm>
            <a:off x="1828800" y="990720"/>
            <a:ext cx="57913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1295280"/>
            <a:ext cx="8839080" cy="33134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at root word means “to hear”?</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1066680"/>
            <a:ext cx="56390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audi”</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38080" y="457200"/>
            <a:ext cx="7391520" cy="33134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at root words means “see, look”?</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4" name=""/>
          <p:cNvSpPr txBox="1"/>
          <p:nvPr/>
        </p:nvSpPr>
        <p:spPr>
          <a:xfrm>
            <a:off x="1295280" y="4191120"/>
            <a:ext cx="5943600" cy="213336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21932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vis” and “spect”</a:t>
            </a:r>
            <a:endParaRPr b="0" lang="en-US" sz="7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71600" y="533520"/>
            <a:ext cx="64008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voice, call”?</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5120" y="1066680"/>
            <a:ext cx="5486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voc” and “vok”</a:t>
            </a:r>
            <a:endParaRPr b="0" lang="en-US" sz="7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2098800"/>
            <a:ext cx="8077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62120" y="1600200"/>
            <a:ext cx="761976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371600" y="762120"/>
            <a:ext cx="624852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to write”?</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1600200"/>
            <a:ext cx="59436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57400" y="990720"/>
            <a:ext cx="487692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scrip” and “script”</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447920" y="914400"/>
            <a:ext cx="632448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e rain kissed my cheeks as it fell.</a:t>
            </a:r>
            <a:endParaRPr b="0" lang="en-US" sz="6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447920"/>
            <a:ext cx="655344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What root words mean “to speak”?</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48" name=""/>
          <p:cNvSpPr/>
          <p:nvPr/>
        </p:nvSpPr>
        <p:spPr>
          <a:xfrm>
            <a:off x="1523880" y="1752480"/>
            <a:ext cx="6705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47920" y="1828800"/>
            <a:ext cx="624816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905120" y="1371600"/>
            <a:ext cx="51814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r>
              <a:rPr b="0" lang="en-US" sz="7200" spc="-1" strike="noStrike">
                <a:solidFill>
                  <a:srgbClr val="000000"/>
                </a:solidFill>
                <a:latin typeface="Times New Roman"/>
              </a:rPr>
              <a:t>locu” and “loqu”</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600200" y="1752480"/>
            <a:ext cx="655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 y="838080"/>
            <a:ext cx="72388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s genre has a problem to solve.</a:t>
            </a:r>
            <a:endParaRPr b="0" lang="en-US" sz="7200" spc="-1" strike="noStrike">
              <a:solidFill>
                <a:srgbClr val="000000"/>
              </a:solidFill>
              <a:latin typeface="Times New Roman"/>
            </a:endParaRPr>
          </a:p>
        </p:txBody>
      </p:sp>
      <p:sp>
        <p:nvSpPr>
          <p:cNvPr id="157" name=""/>
          <p:cNvSpPr/>
          <p:nvPr/>
        </p:nvSpPr>
        <p:spPr>
          <a:xfrm>
            <a:off x="1752480" y="184320"/>
            <a:ext cx="5867640" cy="1188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81080" y="1676520"/>
            <a:ext cx="54864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057400" y="1523880"/>
            <a:ext cx="5334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ystery</a:t>
            </a:r>
            <a:endParaRPr b="0" lang="en-US" sz="7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762120"/>
            <a:ext cx="6858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143000" y="1371600"/>
            <a:ext cx="68580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is genre takes place in history and is not true but behave in ways they would in that period of time.</a:t>
            </a:r>
            <a:endParaRPr b="0" lang="en-US" sz="48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828800" y="1219320"/>
            <a:ext cx="53341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057400" y="1066680"/>
            <a:ext cx="4648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istorical fiction</a:t>
            </a:r>
            <a:endParaRPr b="0" lang="en-US" sz="7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38080" y="990720"/>
            <a:ext cx="73915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is genre has a setting that takes place in modern times and the story could happen but did not.</a:t>
            </a:r>
            <a:endParaRPr b="0" lang="en-US" sz="5400" spc="-1" strike="noStrike">
              <a:solidFill>
                <a:srgbClr val="000000"/>
              </a:solidFill>
              <a:latin typeface="Times New Roman"/>
            </a:endParaRPr>
          </a:p>
        </p:txBody>
      </p:sp>
      <p:sp>
        <p:nvSpPr>
          <p:cNvPr id="174" name=""/>
          <p:cNvSpPr/>
          <p:nvPr/>
        </p:nvSpPr>
        <p:spPr>
          <a:xfrm>
            <a:off x="1371600" y="0"/>
            <a:ext cx="65530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txBox="1"/>
          <p:nvPr/>
        </p:nvSpPr>
        <p:spPr>
          <a:xfrm>
            <a:off x="1523880" y="4419720"/>
            <a:ext cx="5943600" cy="213336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1600200"/>
            <a:ext cx="63244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57400" y="1752480"/>
            <a:ext cx="5181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realistic fiction</a:t>
            </a:r>
            <a:endParaRPr b="0" lang="en-US" sz="7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219320"/>
            <a:ext cx="89154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905120" y="914400"/>
            <a:ext cx="59436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s genre is a true story about someone’s life but written by another person.</a:t>
            </a:r>
            <a:endParaRPr b="0" lang="en-US" sz="7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7524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biography</a:t>
            </a:r>
            <a:endParaRPr b="0" lang="en-US" sz="7200" spc="-1" strike="noStrike">
              <a:solidFill>
                <a:srgbClr val="000000"/>
              </a:solidFill>
              <a:latin typeface="Times New Roman"/>
            </a:endParaRPr>
          </a:p>
        </p:txBody>
      </p:sp>
      <p:sp>
        <p:nvSpPr>
          <p:cNvPr id="189" name=""/>
          <p:cNvSpPr/>
          <p:nvPr/>
        </p:nvSpPr>
        <p:spPr>
          <a:xfrm>
            <a:off x="1828800" y="1600200"/>
            <a:ext cx="5867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914400" y="175248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ersonification</a:t>
            </a:r>
            <a:endParaRPr b="0" lang="en-US" sz="7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0" y="1219320"/>
            <a:ext cx="9144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905120" y="838080"/>
            <a:ext cx="5333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n this genre, the setting is usually set in the distant future and is based on scientific facts.</a:t>
            </a:r>
            <a:endParaRPr b="0" lang="en-US" sz="5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1828800"/>
            <a:ext cx="5486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cience fiction</a:t>
            </a:r>
            <a:endParaRPr b="0" lang="en-US" sz="7200" spc="-1" strike="noStrike">
              <a:solidFill>
                <a:srgbClr val="000000"/>
              </a:solidFill>
              <a:latin typeface="Times New Roman"/>
            </a:endParaRPr>
          </a:p>
        </p:txBody>
      </p:sp>
      <p:sp>
        <p:nvSpPr>
          <p:cNvPr id="197" name=""/>
          <p:cNvSpPr/>
          <p:nvPr/>
        </p:nvSpPr>
        <p:spPr>
          <a:xfrm>
            <a:off x="1981080" y="1523880"/>
            <a:ext cx="54104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90720" y="609480"/>
            <a:ext cx="7010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 ____________ is a person or other figure that is part of a story.</a:t>
            </a:r>
            <a:endParaRPr b="0" lang="en-US" sz="7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00200" y="1600200"/>
            <a:ext cx="586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character</a:t>
            </a:r>
            <a:endParaRPr b="0" lang="en-US" sz="7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38080" y="1066680"/>
            <a:ext cx="70866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 is the time and location (place) in which story events occur.</a:t>
            </a:r>
            <a:endParaRPr b="0" lang="en-US" sz="7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95280" y="838080"/>
            <a:ext cx="6096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etting</a:t>
            </a:r>
            <a:endParaRPr b="0" lang="en-US" sz="7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0"/>
            <a:ext cx="69343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_________ is the major idea or lesson that a story conveys (communicates) about life.</a:t>
            </a:r>
            <a:endParaRPr b="0" lang="en-US" sz="5400" spc="-1" strike="noStrike">
              <a:solidFill>
                <a:srgbClr val="000000"/>
              </a:solidFill>
              <a:latin typeface="Times New Roman"/>
            </a:endParaRPr>
          </a:p>
        </p:txBody>
      </p:sp>
      <p:sp>
        <p:nvSpPr>
          <p:cNvPr id="214" name=""/>
          <p:cNvSpPr txBox="1"/>
          <p:nvPr/>
        </p:nvSpPr>
        <p:spPr>
          <a:xfrm>
            <a:off x="1295280" y="4343400"/>
            <a:ext cx="5943600" cy="2133720"/>
          </a:xfrm>
          <a:prstGeom prst="rect">
            <a:avLst/>
          </a:prstGeom>
        </p:spPr>
        <p:txBody>
          <a:bodyPr wrap="none" lIns="90000" rIns="90000" tIns="46800" bIns="46800" anchor="ctr" anchorCtr="1">
            <a:prstTxWarp prst="textCascadeUp">
              <a:avLst>
                <a:gd name="adj" fmla="val 71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 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95280" y="1600200"/>
            <a:ext cx="6629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eme</a:t>
            </a:r>
            <a:endParaRPr b="0" lang="en-US" sz="7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219320" y="1600200"/>
            <a:ext cx="7010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 is the series of related events that make up the story.</a:t>
            </a:r>
            <a:endParaRPr b="0" lang="en-US" sz="7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514600" y="1600200"/>
            <a:ext cx="4648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lot</a:t>
            </a:r>
            <a:endParaRPr b="0" lang="en-US" sz="7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286000" y="1676520"/>
            <a:ext cx="3200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762120" y="609480"/>
            <a:ext cx="6933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 was so tired I could have slept for a year.</a:t>
            </a:r>
            <a:endParaRPr b="0" lang="en-US" sz="7200" spc="-1" strike="noStrike">
              <a:solidFill>
                <a:srgbClr val="000000"/>
              </a:solidFill>
              <a:latin typeface="Times New Roman"/>
            </a:endParaRPr>
          </a:p>
        </p:txBody>
      </p:sp>
      <p:sp>
        <p:nvSpPr>
          <p:cNvPr id="84" name=""/>
          <p:cNvSpPr/>
          <p:nvPr/>
        </p:nvSpPr>
        <p:spPr>
          <a:xfrm>
            <a:off x="1600200" y="838080"/>
            <a:ext cx="63244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90720" y="1295280"/>
            <a:ext cx="716256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_____________ occurs when the author tells about an event that happened before the time of the story.</a:t>
            </a:r>
            <a:endParaRPr b="0" lang="en-US" sz="5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362320" y="1371600"/>
            <a:ext cx="4876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lashback</a:t>
            </a:r>
            <a:endParaRPr b="0" lang="en-US" sz="7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2"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90720" y="304920"/>
            <a:ext cx="70866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___________ means suggesting beforehand what is going to happen later in the story.</a:t>
            </a:r>
            <a:endParaRPr b="0" lang="en-US" sz="7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4"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66680" y="2209680"/>
            <a:ext cx="7391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oreshadowing</a:t>
            </a:r>
            <a:endParaRPr b="0" lang="en-US" sz="7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8"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838080"/>
            <a:ext cx="8381880" cy="52876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hich point of view is this?</a:t>
            </a:r>
            <a:endParaRPr b="0" lang="en-US" sz="6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 groped my way down the tree and fell with a thud into the mud.  Then I heard the guard dogs barking furiously as they bounded toward me.  My heart began to pound.</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133720"/>
            <a:ext cx="6324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first person point of view</a:t>
            </a:r>
            <a:endParaRPr b="0" lang="en-US" sz="7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80880" y="1143000"/>
            <a:ext cx="8382240" cy="367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ich point of view is this?</a:t>
            </a:r>
            <a:endParaRPr b="0" lang="en-US" sz="5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he saw that her father was laughing hysterically, but she had no idea why.  Was he reading that silly book again?</a:t>
            </a:r>
            <a:endParaRPr b="0" lang="en-US" sz="40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14400" y="1676520"/>
            <a:ext cx="70866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ird person </a:t>
            </a:r>
            <a:r>
              <a:rPr b="0" lang="en-US" sz="7200" spc="-1" strike="noStrike" u="sng">
                <a:solidFill>
                  <a:srgbClr val="000000"/>
                </a:solidFill>
                <a:uFillTx/>
                <a:latin typeface="Times New Roman"/>
              </a:rPr>
              <a:t>limited</a:t>
            </a:r>
            <a:r>
              <a:rPr b="0" lang="en-US" sz="7200" spc="-1" strike="noStrike">
                <a:solidFill>
                  <a:srgbClr val="000000"/>
                </a:solidFill>
                <a:latin typeface="Times New Roman"/>
              </a:rPr>
              <a:t> point of view</a:t>
            </a:r>
            <a:endParaRPr b="0" lang="en-US" sz="7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2"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33520" y="304920"/>
            <a:ext cx="7924680" cy="54090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point of view is this?</a:t>
            </a:r>
            <a:endParaRPr b="0" lang="en-US" sz="48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the school cafeteria, Jon felt lonely and out of place, so he gobbled his lunch as fast as he could.  On the other side of the table,  Jeanne was wondering if she would ever get used to this noisy, crowded school.  As for Liddy, she was as depressed as ever.</a:t>
            </a:r>
            <a:endParaRPr b="0" lang="en-US" sz="40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57200" y="1066680"/>
            <a:ext cx="815328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Third person omniscient (all-knowing) point of view</a:t>
            </a:r>
            <a:endParaRPr b="0" lang="en-US" sz="6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5"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447920" y="1523880"/>
            <a:ext cx="5790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yperbole</a:t>
            </a:r>
            <a:endParaRPr b="0" lang="en-US" sz="7200" spc="-1" strike="noStrike">
              <a:solidFill>
                <a:srgbClr val="000000"/>
              </a:solidFill>
              <a:latin typeface="Times New Roman"/>
            </a:endParaRPr>
          </a:p>
        </p:txBody>
      </p:sp>
      <p:sp>
        <p:nvSpPr>
          <p:cNvPr id="90" name=""/>
          <p:cNvSpPr/>
          <p:nvPr/>
        </p:nvSpPr>
        <p:spPr>
          <a:xfrm>
            <a:off x="1600200" y="990720"/>
            <a:ext cx="60958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5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9480" y="609480"/>
            <a:ext cx="81536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304920"/>
            <a:ext cx="8839080" cy="62834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___________ is the attitude or style of expression used to write.</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___________ is the general feeling in a story.  It refers to the emotion a writer makes a reader feel.</a:t>
            </a:r>
            <a:endParaRPr b="0" lang="en-US" sz="5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3"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080" y="1828800"/>
            <a:ext cx="7315200" cy="2860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one</a:t>
            </a:r>
            <a:endParaRPr b="0" lang="en-US" sz="7200" spc="-1" strike="noStrike">
              <a:solidFill>
                <a:srgbClr val="000000"/>
              </a:solidFill>
              <a:latin typeface="Times New Roman"/>
            </a:endParaRPr>
          </a:p>
          <a:p>
            <a:pPr marL="457200" indent="-457200">
              <a:spcBef>
                <a:spcPts val="45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ood</a:t>
            </a:r>
            <a:endParaRPr b="0" lang="en-US" sz="7200" spc="-1" strike="noStrike">
              <a:solidFill>
                <a:srgbClr val="000000"/>
              </a:solidFill>
              <a:latin typeface="Times New Roman"/>
            </a:endParaRPr>
          </a:p>
        </p:txBody>
      </p:sp>
      <p:sp>
        <p:nvSpPr>
          <p:cNvPr id="267" name=""/>
          <p:cNvSpPr/>
          <p:nvPr/>
        </p:nvSpPr>
        <p:spPr>
          <a:xfrm>
            <a:off x="1981080" y="1143000"/>
            <a:ext cx="563904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762120" y="1066680"/>
            <a:ext cx="755964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223640" y="2010600"/>
            <a:ext cx="720936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giant’s steps were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under as he ran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ward Jack.</a:t>
            </a:r>
            <a:endParaRPr b="0" lang="en-US" sz="6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05120" y="1066680"/>
            <a:ext cx="4952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etaphor</a:t>
            </a:r>
            <a:endParaRPr b="0" lang="en-US" sz="7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8600" y="685800"/>
            <a:ext cx="8915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 love to lick the lollipop.</a:t>
            </a:r>
            <a:endParaRPr b="0" lang="en-US" sz="7200" spc="-1" strike="noStrike">
              <a:solidFill>
                <a:srgbClr val="000000"/>
              </a:solidFill>
              <a:latin typeface="Times New Roman"/>
            </a:endParaRPr>
          </a:p>
        </p:txBody>
      </p:sp>
      <p:sp>
        <p:nvSpPr>
          <p:cNvPr id="101" name=""/>
          <p:cNvSpPr/>
          <p:nvPr/>
        </p:nvSpPr>
        <p:spPr>
          <a:xfrm>
            <a:off x="1447920" y="762120"/>
            <a:ext cx="67816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057400" y="1905120"/>
            <a:ext cx="48006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752480" y="2133720"/>
            <a:ext cx="556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lliteration</a:t>
            </a:r>
            <a:endParaRPr b="0" lang="en-US" sz="7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Brandon Valley School District</cp:lastModifiedBy>
  <dcterms:modified xsi:type="dcterms:W3CDTF">2009-02-26T17:32:46Z</dcterms:modified>
  <cp:revision>49</cp:revision>
  <dc:subject/>
  <dc:title>Blank Jeopardy</dc:title>
</cp:coreProperties>
</file>